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F54-FECD-4AAE-950E-A0207E76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815-C7F3-44AC-AF5D-3900DA85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139-B1C0-4D4C-9220-FE38B061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F98-1508-4571-9E18-5943FE63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F48E-7CD2-455F-9E36-C4623554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622F-BDBB-4271-9C48-E14EAF2C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7AB7-E237-4015-9DBE-432F3045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A4EE-625E-4F52-8D15-6DFD0753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7A63-8072-43FB-873B-9709CA91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2153-0234-46FE-AB58-47A084A9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EF12-0FF2-403D-A701-259F7A8F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268-D7BB-4FE9-A3F6-FEC873B6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4B7D-926D-4B0B-A39A-603949BC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F522-8C52-485A-AF32-E5887CE7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C94E-0625-4441-8C4B-0BFF9091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4809-F03A-403D-ADAD-CCB0BE5F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FAB0-6383-41DA-AE7A-8AE4D2C0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141-B659-449F-B9E7-175CB1BE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5B8-7030-48C8-BB6C-D1F7CA68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60E-CC93-4773-B0D9-49C69718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734-EAC2-4303-BFD5-D9A325F0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3C1-A6CB-413D-8BF1-E9C70356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74C-A5F5-476E-9F05-85968257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B74-0423-4E26-979C-8EBE0DCA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B738-27E7-4E28-B8BD-DF4768AD83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DC27-CB51-4D3F-951E-273018AE13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685800" y="0"/>
            <a:ext cx="7391520" cy="41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ynthet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1295280" y="2133720"/>
            <a:ext cx="7086600" cy="40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ivi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600200" y="9907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The quotient is:</a:t>
            </a: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609480" y="2209680"/>
          <a:ext cx="7696440" cy="14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696440" cy="14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4"/>
          <p:cNvSpPr/>
          <p:nvPr/>
        </p:nvSpPr>
        <p:spPr>
          <a:xfrm>
            <a:off x="1447920" y="44956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 to place the remainder over the divisor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" name="Group 7"/>
          <p:cNvGrpSpPr/>
          <p:nvPr/>
        </p:nvGrpSpPr>
        <p:grpSpPr>
          <a:xfrm>
            <a:off x="304920" y="4191120"/>
            <a:ext cx="8100720" cy="1549440"/>
            <a:chOff x="304920" y="4191120"/>
            <a:chExt cx="8100720" cy="1549440"/>
          </a:xfrm>
        </p:grpSpPr>
        <p:graphicFrame>
          <p:nvGraphicFramePr>
            <p:cNvPr id="184" name="Object 5"/>
            <p:cNvGraphicFramePr/>
            <p:nvPr/>
          </p:nvGraphicFramePr>
          <p:xfrm>
            <a:off x="304920" y="4191120"/>
            <a:ext cx="861840" cy="15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4191120"/>
                      <a:ext cx="861840" cy="15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Object 6"/>
            <p:cNvGraphicFramePr/>
            <p:nvPr/>
          </p:nvGraphicFramePr>
          <p:xfrm>
            <a:off x="7543800" y="4191120"/>
            <a:ext cx="861840" cy="1549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3800" y="4191120"/>
                      <a:ext cx="861840" cy="15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219320" y="91440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e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9" name="Object 3"/>
          <p:cNvGraphicFramePr/>
          <p:nvPr/>
        </p:nvGraphicFramePr>
        <p:xfrm>
          <a:off x="2133720" y="2362320"/>
          <a:ext cx="316368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362320"/>
                    <a:ext cx="316368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4"/>
          <p:cNvSpPr/>
          <p:nvPr/>
        </p:nvSpPr>
        <p:spPr>
          <a:xfrm>
            <a:off x="2133720" y="586728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Object 5"/>
          <p:cNvGraphicFramePr/>
          <p:nvPr/>
        </p:nvGraphicFramePr>
        <p:xfrm>
          <a:off x="2438280" y="5257800"/>
          <a:ext cx="383544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5257800"/>
                    <a:ext cx="38354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6"/>
          <p:cNvSpPr/>
          <p:nvPr/>
        </p:nvSpPr>
        <p:spPr>
          <a:xfrm>
            <a:off x="2286000" y="4191120"/>
            <a:ext cx="441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5" name="Object 7"/>
          <p:cNvGraphicFramePr/>
          <p:nvPr/>
        </p:nvGraphicFramePr>
        <p:xfrm>
          <a:off x="2514600" y="3276720"/>
          <a:ext cx="314316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3276720"/>
                    <a:ext cx="31431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4572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Let’s look at how to do this </a:t>
            </a:r>
            <a:br>
              <a:rPr sz="3600"/>
            </a:b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using the exampl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822240" y="2203560"/>
          <a:ext cx="7486560" cy="120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2203560"/>
                    <a:ext cx="748656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5"/>
          <p:cNvSpPr/>
          <p:nvPr/>
        </p:nvSpPr>
        <p:spPr>
          <a:xfrm>
            <a:off x="685800" y="33526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 order to use synthetic division these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wo things must happ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523880" y="4267080"/>
            <a:ext cx="302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must be a coefficient for every possible power of the vari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5597640" y="4267080"/>
            <a:ext cx="289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ivisor must have a leading coefficient of 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90400" y="426708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917960" y="426708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19320" y="685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 #1: Write the terms of the polynomial so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the degrees are in descending or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914400" y="2666880"/>
          <a:ext cx="717552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666880"/>
                    <a:ext cx="71755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380880" y="4114800"/>
          <a:ext cx="714600" cy="10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114800"/>
                    <a:ext cx="71460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9"/>
          <p:cNvGraphicFramePr/>
          <p:nvPr/>
        </p:nvGraphicFramePr>
        <p:xfrm>
          <a:off x="1295280" y="4267080"/>
          <a:ext cx="6858000" cy="122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267080"/>
                    <a:ext cx="68580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35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1600200" y="38088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ep #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 Write the constant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f the divisor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ff9933"/>
                </a:solidFill>
                <a:latin typeface="Times New Roman"/>
              </a:rPr>
              <a:t>x- a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to the left and write down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coefficien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Object 23"/>
          <p:cNvGraphicFramePr/>
          <p:nvPr/>
        </p:nvGraphicFramePr>
        <p:xfrm>
          <a:off x="1066680" y="2286000"/>
          <a:ext cx="693108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9310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4"/>
          <p:cNvGraphicFramePr/>
          <p:nvPr/>
        </p:nvGraphicFramePr>
        <p:xfrm>
          <a:off x="1828800" y="3892680"/>
          <a:ext cx="5440320" cy="31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3892680"/>
                    <a:ext cx="5440320" cy="31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25"/>
          <p:cNvSpPr/>
          <p:nvPr/>
        </p:nvSpPr>
        <p:spPr>
          <a:xfrm>
            <a:off x="2438280" y="5715000"/>
            <a:ext cx="106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523880" y="7621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ep #3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 Bring down the first coefficient,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Object 10"/>
          <p:cNvGraphicFramePr/>
          <p:nvPr/>
        </p:nvGraphicFramePr>
        <p:xfrm>
          <a:off x="2362320" y="1828800"/>
          <a:ext cx="419076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419076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Group 9"/>
          <p:cNvGrpSpPr/>
          <p:nvPr/>
        </p:nvGrpSpPr>
        <p:grpSpPr>
          <a:xfrm>
            <a:off x="1371600" y="3962520"/>
            <a:ext cx="7391160" cy="764280"/>
            <a:chOff x="1371600" y="3962520"/>
            <a:chExt cx="7391160" cy="764280"/>
          </a:xfrm>
        </p:grpSpPr>
        <p:sp>
          <p:nvSpPr>
            <p:cNvPr id="127" name="Text Box 7"/>
            <p:cNvSpPr/>
            <p:nvPr/>
          </p:nvSpPr>
          <p:spPr>
            <a:xfrm>
              <a:off x="1371600" y="3962520"/>
              <a:ext cx="739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Step #4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: Multiply the first coefficient by </a:t>
              </a:r>
              <a:r>
                <a:rPr b="0" i="1" lang="en-US" sz="2800" spc="-1" strike="noStrike">
                  <a:solidFill>
                    <a:srgbClr val="3333cc"/>
                  </a:solidFill>
                  <a:latin typeface="Times New Roman"/>
                </a:rPr>
                <a:t>r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(3*5).</a:t>
              </a: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28" name="Object 8"/>
            <p:cNvGraphicFramePr/>
            <p:nvPr/>
          </p:nvGraphicFramePr>
          <p:xfrm>
            <a:off x="7827480" y="4329720"/>
            <a:ext cx="483120" cy="318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27480" y="4329720"/>
                      <a:ext cx="483120" cy="31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0" name="Object 11"/>
          <p:cNvGraphicFramePr/>
          <p:nvPr/>
        </p:nvGraphicFramePr>
        <p:xfrm>
          <a:off x="2338560" y="4600440"/>
          <a:ext cx="4392360" cy="225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38560" y="4600440"/>
                    <a:ext cx="439236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Line 12"/>
          <p:cNvSpPr/>
          <p:nvPr/>
        </p:nvSpPr>
        <p:spPr>
          <a:xfrm>
            <a:off x="2514600" y="5181480"/>
            <a:ext cx="60948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3505320" y="5867280"/>
            <a:ext cx="38088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7"/>
          <p:cNvSpPr/>
          <p:nvPr/>
        </p:nvSpPr>
        <p:spPr>
          <a:xfrm>
            <a:off x="1828800" y="6858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ep #5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 After multiplying in the diagonals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add the colum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Object 19"/>
          <p:cNvGraphicFramePr/>
          <p:nvPr/>
        </p:nvGraphicFramePr>
        <p:xfrm>
          <a:off x="1752480" y="3352680"/>
          <a:ext cx="4273560" cy="21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352680"/>
                    <a:ext cx="4273560" cy="21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Group 24"/>
          <p:cNvGrpSpPr/>
          <p:nvPr/>
        </p:nvGrpSpPr>
        <p:grpSpPr>
          <a:xfrm>
            <a:off x="3048120" y="2590920"/>
            <a:ext cx="1447200" cy="2057400"/>
            <a:chOff x="3048120" y="2590920"/>
            <a:chExt cx="1447200" cy="2057400"/>
          </a:xfrm>
        </p:grpSpPr>
        <p:sp>
          <p:nvSpPr>
            <p:cNvPr id="138" name="Line 20"/>
            <p:cNvSpPr/>
            <p:nvPr/>
          </p:nvSpPr>
          <p:spPr>
            <a:xfrm>
              <a:off x="3875040" y="3581640"/>
              <a:ext cx="0" cy="10666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Text Box 21"/>
            <p:cNvSpPr/>
            <p:nvPr/>
          </p:nvSpPr>
          <p:spPr>
            <a:xfrm>
              <a:off x="3048120" y="2590920"/>
              <a:ext cx="144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Add the colum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" name="Line 22"/>
          <p:cNvSpPr/>
          <p:nvPr/>
        </p:nvSpPr>
        <p:spPr>
          <a:xfrm>
            <a:off x="1981080" y="411480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23"/>
          <p:cNvSpPr/>
          <p:nvPr/>
        </p:nvSpPr>
        <p:spPr>
          <a:xfrm flipV="1">
            <a:off x="2895480" y="46483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5"/>
          <p:cNvSpPr/>
          <p:nvPr/>
        </p:nvSpPr>
        <p:spPr>
          <a:xfrm>
            <a:off x="4648320" y="4495680"/>
            <a:ext cx="1371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3" name="Object 20"/>
          <p:cNvGraphicFramePr/>
          <p:nvPr/>
        </p:nvGraphicFramePr>
        <p:xfrm>
          <a:off x="1741320" y="304920"/>
          <a:ext cx="627084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1320" y="304920"/>
                    <a:ext cx="627084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2"/>
          <p:cNvGraphicFramePr/>
          <p:nvPr/>
        </p:nvGraphicFramePr>
        <p:xfrm>
          <a:off x="1523880" y="2438280"/>
          <a:ext cx="5791320" cy="297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2438280"/>
                    <a:ext cx="5791320" cy="29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Line 23"/>
          <p:cNvSpPr/>
          <p:nvPr/>
        </p:nvSpPr>
        <p:spPr>
          <a:xfrm>
            <a:off x="1828800" y="3200400"/>
            <a:ext cx="1600200" cy="1600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24"/>
          <p:cNvSpPr/>
          <p:nvPr/>
        </p:nvSpPr>
        <p:spPr>
          <a:xfrm flipV="1">
            <a:off x="4343400" y="4190760"/>
            <a:ext cx="609480" cy="6094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5562720" y="2743200"/>
            <a:ext cx="0" cy="17524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523880" y="5562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ply the diagonals, add the colum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525780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Object 38"/>
          <p:cNvGraphicFramePr/>
          <p:nvPr/>
        </p:nvGraphicFramePr>
        <p:xfrm>
          <a:off x="4724280" y="4419720"/>
          <a:ext cx="7812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419720"/>
                    <a:ext cx="78120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447920" y="9907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tep #7: Repeat the same procedure as step #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Object 24"/>
          <p:cNvGraphicFramePr/>
          <p:nvPr/>
        </p:nvGraphicFramePr>
        <p:xfrm>
          <a:off x="990720" y="2362320"/>
          <a:ext cx="6553080" cy="27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6553080" cy="27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25"/>
          <p:cNvSpPr/>
          <p:nvPr/>
        </p:nvSpPr>
        <p:spPr>
          <a:xfrm>
            <a:off x="1295280" y="3352680"/>
            <a:ext cx="6098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26"/>
          <p:cNvSpPr/>
          <p:nvPr/>
        </p:nvSpPr>
        <p:spPr>
          <a:xfrm flipV="1">
            <a:off x="2438280" y="3809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27"/>
          <p:cNvSpPr/>
          <p:nvPr/>
        </p:nvSpPr>
        <p:spPr>
          <a:xfrm flipV="1">
            <a:off x="3581280" y="38858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28"/>
          <p:cNvSpPr/>
          <p:nvPr/>
        </p:nvSpPr>
        <p:spPr>
          <a:xfrm flipV="1">
            <a:off x="4648320" y="38858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29"/>
          <p:cNvSpPr/>
          <p:nvPr/>
        </p:nvSpPr>
        <p:spPr>
          <a:xfrm flipV="1">
            <a:off x="6095880" y="38858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4343400" y="1905120"/>
            <a:ext cx="1218960" cy="2361600"/>
            <a:chOff x="4343400" y="1905120"/>
            <a:chExt cx="1218960" cy="2361600"/>
          </a:xfrm>
        </p:grpSpPr>
        <p:sp>
          <p:nvSpPr>
            <p:cNvPr id="163" name="Text Box 31"/>
            <p:cNvSpPr/>
            <p:nvPr/>
          </p:nvSpPr>
          <p:spPr>
            <a:xfrm>
              <a:off x="4343400" y="1905120"/>
              <a:ext cx="1218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dd Column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Line 32"/>
            <p:cNvSpPr/>
            <p:nvPr/>
          </p:nvSpPr>
          <p:spPr>
            <a:xfrm>
              <a:off x="4952880" y="2666880"/>
              <a:ext cx="0" cy="1599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Line 34"/>
          <p:cNvSpPr/>
          <p:nvPr/>
        </p:nvSpPr>
        <p:spPr>
          <a:xfrm>
            <a:off x="1295280" y="304812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7010280" y="1905120"/>
            <a:ext cx="1218960" cy="2361600"/>
            <a:chOff x="7010280" y="1905120"/>
            <a:chExt cx="1218960" cy="2361600"/>
          </a:xfrm>
        </p:grpSpPr>
        <p:sp>
          <p:nvSpPr>
            <p:cNvPr id="167" name="Text Box 36"/>
            <p:cNvSpPr/>
            <p:nvPr/>
          </p:nvSpPr>
          <p:spPr>
            <a:xfrm>
              <a:off x="7010280" y="1905120"/>
              <a:ext cx="1218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dd Column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Line 37"/>
            <p:cNvSpPr/>
            <p:nvPr/>
          </p:nvSpPr>
          <p:spPr>
            <a:xfrm>
              <a:off x="7619760" y="2666880"/>
              <a:ext cx="0" cy="1599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" name="Group 38"/>
          <p:cNvGrpSpPr/>
          <p:nvPr/>
        </p:nvGrpSpPr>
        <p:grpSpPr>
          <a:xfrm>
            <a:off x="3048120" y="1905120"/>
            <a:ext cx="1218960" cy="2361600"/>
            <a:chOff x="3048120" y="1905120"/>
            <a:chExt cx="1218960" cy="2361600"/>
          </a:xfrm>
        </p:grpSpPr>
        <p:sp>
          <p:nvSpPr>
            <p:cNvPr id="170" name="Text Box 39"/>
            <p:cNvSpPr/>
            <p:nvPr/>
          </p:nvSpPr>
          <p:spPr>
            <a:xfrm>
              <a:off x="3048120" y="1905120"/>
              <a:ext cx="1218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dd Column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Line 40"/>
            <p:cNvSpPr/>
            <p:nvPr/>
          </p:nvSpPr>
          <p:spPr>
            <a:xfrm>
              <a:off x="3657600" y="2666880"/>
              <a:ext cx="0" cy="1599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2" name="Group 41"/>
          <p:cNvGrpSpPr/>
          <p:nvPr/>
        </p:nvGrpSpPr>
        <p:grpSpPr>
          <a:xfrm>
            <a:off x="5715000" y="1905120"/>
            <a:ext cx="1218960" cy="2361600"/>
            <a:chOff x="5715000" y="1905120"/>
            <a:chExt cx="1218960" cy="2361600"/>
          </a:xfrm>
        </p:grpSpPr>
        <p:sp>
          <p:nvSpPr>
            <p:cNvPr id="173" name="Text Box 42"/>
            <p:cNvSpPr/>
            <p:nvPr/>
          </p:nvSpPr>
          <p:spPr>
            <a:xfrm>
              <a:off x="5715000" y="1905120"/>
              <a:ext cx="1218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dd Column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Line 43"/>
            <p:cNvSpPr/>
            <p:nvPr/>
          </p:nvSpPr>
          <p:spPr>
            <a:xfrm>
              <a:off x="6324480" y="2666880"/>
              <a:ext cx="0" cy="1599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5" name="Line 44"/>
          <p:cNvSpPr/>
          <p:nvPr/>
        </p:nvSpPr>
        <p:spPr>
          <a:xfrm>
            <a:off x="129528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45"/>
          <p:cNvSpPr/>
          <p:nvPr/>
        </p:nvSpPr>
        <p:spPr>
          <a:xfrm>
            <a:off x="1295280" y="2895480"/>
            <a:ext cx="3886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1" dur="1" fill="hold"/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447920" y="7621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Step #8: Write the quoti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09480" y="2133720"/>
            <a:ext cx="7925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s along the bottom are coefficients of the power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descending order, starting with the power that is one less than that of the dividend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6:09:46Z</dcterms:created>
  <dc:creator>HCPS</dc:creator>
  <dc:description/>
  <dc:language>en-US</dc:language>
  <cp:lastModifiedBy>Karen</cp:lastModifiedBy>
  <dcterms:modified xsi:type="dcterms:W3CDTF">2012-03-19T06:40:30Z</dcterms:modified>
  <cp:revision>47</cp:revision>
  <dc:subject/>
  <dc:title>No Slide Title</dc:title>
</cp:coreProperties>
</file>